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CA1-AF60-49F1-91EB-B586DE7C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7A9-B56E-4D40-817E-F883C352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00A-B949-4900-82F5-68C79C40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D42-7A2A-46FF-8EA7-0B31324C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6AC-B150-4E6D-8BDD-44720E30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849-ED9F-4371-8808-5CE3A0C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251-F3C7-4ECF-AFC0-F6C1577D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C33-F443-4C4C-A540-FEB7785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CFF-1843-4F47-A400-5E6B253B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287-9680-42F2-B759-56415E8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36E-7324-47E1-8DEF-C1603D6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521-8754-4C77-99B3-B017D86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C7B-1361-424A-A560-02C003D0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ветлина е в пътя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536760" y="3500280"/>
            <a:ext cx="9756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 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фар е за сърцето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светлина е в пътя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536760" y="3500280"/>
            <a:ext cx="9756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 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фар е за сърцето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001520" y="3648240"/>
            <a:ext cx="11142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      фар е за сърцето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512720" y="0"/>
            <a:ext cx="116395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Щом в живота с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изгубя пътя свой,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Ти пак до мен ще застанеш.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4049640"/>
            <a:ext cx="799308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Щом аз се заблуд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не ме оставяй Ти,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бъди Ти близо винаг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светлина е в пътя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447480" y="3500280"/>
            <a:ext cx="85672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фар е за сърцето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3933720"/>
            <a:ext cx="8650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3440" y="3789360"/>
            <a:ext cx="86086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Никога не щ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забравя любовта,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която Ти ми показ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023120" y="230040"/>
            <a:ext cx="7253640" cy="38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Исусе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, Ти бъ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ъс мене винаги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и аз ще люб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Теб до кра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ловото Т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Боже мой, за мен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светлина е в пътя 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42:29Z</dcterms:created>
  <dc:creator>TrifonTrifonow</dc:creator>
  <dc:description/>
  <dc:language>en-US</dc:language>
  <cp:lastModifiedBy>TrifonTrifonow</cp:lastModifiedBy>
  <dcterms:modified xsi:type="dcterms:W3CDTF">2005-12-15T20:43:02Z</dcterms:modified>
  <cp:revision>1</cp:revision>
  <dc:subject/>
  <dc:title>Slide 1</dc:title>
</cp:coreProperties>
</file>